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8BB-38DE-42C2-A1FF-22C66F88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52B-7BE1-4090-B968-4826FD84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8EB-4CFD-4E3A-BFDE-F7F3A4B5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E1A-A506-4F6E-AAEE-5E70E738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EAA1-2965-4269-A3F6-AA575026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6E4B-9840-4B18-83A8-7B69B1E9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19FC-2DA2-454A-989F-546C033C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BA3D-A9BC-47DC-A5A4-F124AD11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28B7-1397-42A8-9A1C-2BAF54D4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35E1-0696-4C58-86B2-8039745A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D42C-061E-468A-953A-186D1DFB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4D5-2E6B-40F7-93DD-2EFE76B0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6763-8D01-4435-9F96-B69D8EF4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B660-5EFE-4EB1-995F-87954855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D9BE-122D-4206-B9FD-F6B4E705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4FBD-6B02-423A-919A-CF11F049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20DA-86CE-4B08-A3B8-82E04B35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060-FEA6-4674-B3D4-C73806AC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728-E702-44B1-8987-05326592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E40-F0D7-4A31-86DA-D0C1FFD8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F9E-D5A7-45B5-88DE-440C7DE8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0FC-83EB-4844-9FE3-38826015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0A2-AA8F-49FF-B1FA-A5F9ACE2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321-2502-447E-9A94-7555D8BE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FF12-C43F-47F5-983B-E35AB79EED6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39F9-64A2-439C-A682-09336F4AC8C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 PROGRAMME DE VI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alizado por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-Clara M. Carmona Castro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-Cristina Quirós Villalba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-Victoria González Roldá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Samedi,8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connaisserons notres “corres” et nous le prèsenterons a notre fam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uis, nous ferons une route touristique à Estepa en vo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iront chez nous pour dorm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19600" y="2062080"/>
            <a:ext cx="3854520" cy="29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Dimanche,9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our le matin, nous irons à “Roya” pour manger toute l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irons au “Cerro de San Cristóbal” et nous verrons les monuments d’Estep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9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23840" y="3940200"/>
            <a:ext cx="290376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Lundi,10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9ront au lycée “Aguilar y Can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mangerons avec les “corr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44960" y="2076480"/>
            <a:ext cx="3640320" cy="27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Mardi,11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iront à Cord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n Cordue ils verront “La Mezquita”, “El Alcázar”, “La Sinagoga”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10280" y="1454040"/>
            <a:ext cx="3106800" cy="2332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31082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Mercredi,12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irons à Grenade avec les “corres” et nous allerons au “Parque de las Ciencias” et à “La Alhambr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2397240" cy="2397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3336840" cy="23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3040" y="286920"/>
            <a:ext cx="80755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Jeudi,13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iront à Séville pour voir “La Giralda”, “La Torre del Oro” et le fleuve “Guadalquivi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ls se promèneront pour ses rues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143352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192480" cy="23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Vendredi,14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iront a notre entraînement de bas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sortirons avec notres 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19160" y="1392120"/>
            <a:ext cx="3192480" cy="239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3983040"/>
            <a:ext cx="403848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Samedi,15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irons à Antequera au centre commercial “La Verónica” pour acheter des vê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partiront à Ly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1581120" cy="2517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2417760" cy="25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8:26:06Z</dcterms:created>
  <dc:creator>Melchor</dc:creator>
  <dc:description/>
  <dc:language>en-US</dc:language>
  <cp:lastModifiedBy>Juan</cp:lastModifiedBy>
  <dcterms:modified xsi:type="dcterms:W3CDTF">2009-11-26T15:10:51Z</dcterms:modified>
  <cp:revision>3</cp:revision>
  <dc:subject/>
  <dc:title>Diapositiva 1</dc:title>
</cp:coreProperties>
</file>